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436-0F2D-4AA7-90D7-6A2A33EE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2B1-424B-4C0E-9A9C-54F076CF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82D-BC8A-458F-84B7-C633433C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43C-BD02-458E-81E2-260EEB32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B37-DEB2-40A7-BE83-B9678E2F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70F-CE9B-4382-99B5-79EA5B9B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740-E86A-4B67-BBF8-260A9B8B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050-6658-4A0C-9427-02116F3F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754A-C809-4D71-AF3F-56C7D269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800-FF5C-4691-9963-8B7D8167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5F1-351F-491B-A52F-F8EF4767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47D0-F8A0-435F-8374-9DC3CF43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E635-A788-44C0-94EC-C6DDA05F7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ent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ow long shall we cry for help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lis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r cry to you, ‘Violence!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s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 and hope, we respon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long, O people, how l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 is your justice,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purpo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rea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compas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Do you not care for your peop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reation, your repu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urpose is hid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ur ey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reason is absent to our 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passion is not discerned by 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 hop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l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afra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me demand sig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others seek ins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ut we have only Christ cruc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tumbling block and f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the wisdom of our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 is the power and wisdom of God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rely wisdom is vindi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her d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1 Corinthians 1:22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11: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, we appeal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hope, we will not let God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love, we claim God’s atten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et us honour th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receives our cri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gathers us to herself even as we continue to c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23: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9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50:57Z</dcterms:created>
  <dc:creator>Anon Anon</dc:creator>
  <dc:description/>
  <dc:language>en-US</dc:language>
  <cp:lastModifiedBy>Anon Anon</cp:lastModifiedBy>
  <dcterms:modified xsi:type="dcterms:W3CDTF">2005-08-09T05:17:18Z</dcterms:modified>
  <cp:revision>17</cp:revision>
  <dc:subject/>
  <dc:title>Lament (SLD-2)</dc:title>
</cp:coreProperties>
</file>